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5C3F-BFA8-4F3E-A0A1-2E7CE62CF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4782-A5FE-49DA-944C-27B20FD59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DDA1-5C92-4FBA-8A0C-3EF918BDD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A6C2-1D7A-4CE2-AEDD-C5A1EE0A9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4178-2190-4D31-80CE-EDD3456D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3D10-CCA4-40CC-A2B1-9D7E4DD7D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B561-CEE6-432F-85D5-4352A9BD2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5941-48A0-4D75-8D0D-A78340C63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8713-B5C9-4F18-83BC-765483B4F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AC33-151D-4EB3-997F-B610EE93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9919-F503-48CA-B6A3-7CF218A6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734F-FFD4-4483-9650-7E410BE8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D8953-EC95-461A-BE3B-87D6B8F2F2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ar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sident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371600" y="3733920"/>
            <a:ext cx="65530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raham Lincol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18:49:54Z</dcterms:created>
  <dc:creator>Carolyn Spielmann</dc:creator>
  <dc:description/>
  <dc:language>en-US</dc:language>
  <cp:lastModifiedBy>Carolyn Spielmann</cp:lastModifiedBy>
  <dcterms:modified xsi:type="dcterms:W3CDTF">2010-02-04T18:50:25Z</dcterms:modified>
  <cp:revision>1</cp:revision>
  <dc:subject/>
  <dc:title>Comparing presidents </dc:title>
</cp:coreProperties>
</file>